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B2B9-6C23-411A-85A2-DC533463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778-A5EE-426B-97EA-36FB125D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F78C-8DCB-4D1F-9033-8714406D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6952-28AD-4709-B790-DE722876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DD0B-2715-4B26-993A-A30B7A90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8EE-2304-4E75-8762-EE19DB2A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5DF-11BA-4021-92D4-507BBF63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55F6-9A4C-4380-A587-7F0C35F3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E2D2-A8EF-4804-B711-01A3A407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834C-7361-481B-945A-E74705AB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27E6-0956-4C8B-8CD8-F2D2E6AD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333-1741-4112-A3BC-B794D4B0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FCF6B-2319-4823-85EC-DE87F25CAF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C5E7D0-9422-4558-BF92-8410D07D3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2120" y="685800"/>
          <a:ext cx="7467480" cy="4656240"/>
        </p:xfrm>
        <a:graphic>
          <a:graphicData uri="http://schemas.openxmlformats.org/drawingml/2006/table">
            <a:tbl>
              <a:tblPr/>
              <a:tblGrid>
                <a:gridCol w="1493640"/>
                <a:gridCol w="1494000"/>
                <a:gridCol w="1492200"/>
                <a:gridCol w="1493640"/>
                <a:gridCol w="1494000"/>
              </a:tblGrid>
              <a:tr h="124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p Ta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ottom Ta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p Ta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ep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ttom Ta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ep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ot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ot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ot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ot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lton’s Model of the At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chemical elements are made of ato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the atoms of an element are identical in their m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atoms of different elements have different m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atoms only combine in small, whole number ratios such as 1:1, 1:2, 2:3 and so 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 atoms can be neither created nor destroy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omson’s Model of the At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thing that Dalton said an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are made up of a positively charged matter that surrounds “electron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s carry a negative ch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2971800" y="3962520"/>
            <a:ext cx="383544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6:25:01Z</dcterms:created>
  <dc:creator>BTSD</dc:creator>
  <dc:description/>
  <dc:language>en-US</dc:language>
  <cp:lastModifiedBy>BTSD</cp:lastModifiedBy>
  <dcterms:modified xsi:type="dcterms:W3CDTF">2008-11-19T14:28:45Z</dcterms:modified>
  <cp:revision>2</cp:revision>
  <dc:subject/>
  <dc:title>Slide 1</dc:title>
</cp:coreProperties>
</file>